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0EE-C9D0-4681-8CFE-541ACE96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9C3-BA48-4774-AA9F-F7FD6070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DD00-CE26-4EAE-9836-91F864EA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BAD-AC65-47F3-BFF7-40C5FA3B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556-558A-46A5-919A-D2D8820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C0D-C5CF-47F1-8C45-65E9BCD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5A0-3838-4282-8D23-10C7F310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977-D03F-47BB-B1CD-16D7197A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6768-0AF8-4DFA-B19F-58C289F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212-7FA6-4785-B232-97503183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05D-8949-427D-B255-3A1CB8BC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141-9F24-44C6-A2D8-BF0DC98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A8A7-41D2-46DB-B7C9-E203879101F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olufinancovaných 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SF/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7931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školících místností a certifikátů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vinnými log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NO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ořádaný konkrétně pro příjem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: 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urz pro veřejnost, kterého se příjemce pouze účastní.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Vlaječky ČR a EU není třeba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o označení místnosti není třeba tisknout plakáty či bannery, stačí dostatečně velká a viditelná cedule (čtvrtka) s řadou l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Shrnu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2 manu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pro publicitu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Manuál vizuální identity OP LZ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3 základní povinnosti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(závazný balíče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á lo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označení školící místnosti a vybav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rezentace na 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droje informací a konta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rogramové období 2007-13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OP LZZ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manuály, šablony, loga, prez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Doporučujeme odebíra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ovinky e-mailem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, kde se dozvíte o aktuálních výzvách, seminářích, realizovaných projektech, zadávacích řízeních a podob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kládání informací na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Registrace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na stránkách www.esfcr.c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Realizované projekty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projekt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Zadávací řízení 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→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Vložit zadávací řízen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, kde naleznete návod i on-line formulá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Záložka O webu ESFCR – všechny náv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407e"/>
                </a:solidFill>
                <a:latin typeface="Arial"/>
              </a:rPr>
              <a:t>Děkuji Vám za pozornos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á 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součást všech projektů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spolufinancovaných z fondů E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je předmětem k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řízení Komise č. 1828/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informování příjemců i široké veřejnosti, že projekt je spolufinancován z 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d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dostává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uvedení příjemců na veřejně přístupném sezn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ublicita v projek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pro publicitu OP LZZ  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stanovuje základní pravidla týkající se publicity v projekt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Manuál vizuální identity OP LZZ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r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uje zásady správného pou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ívání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Závazný balíček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k provádění propagačních a informačních aktiv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povinné minimum publicity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d3673"/>
                </a:solidFill>
                <a:latin typeface="Arial"/>
                <a:ea typeface="Arial"/>
              </a:rPr>
              <a:t>~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označen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školící místnosti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(+ vybav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ložení </a:t>
            </a:r>
            <a:r>
              <a:rPr b="1" lang="cs-CZ" sz="3200" spc="-1" strike="noStrike" u="sng">
                <a:solidFill>
                  <a:srgbClr val="0d3673"/>
                </a:solidFill>
                <a:uFillTx/>
                <a:latin typeface="Arial"/>
              </a:rPr>
              <a:t>prezentace projektu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na 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pro publici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a)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 logo fondu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ázev „Evropský sociální fond v ČR“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c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E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d3673"/>
                </a:solidFill>
                <a:uFillTx/>
                <a:latin typeface="Arial"/>
              </a:rPr>
              <a:t>d)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logo operačního programu včetně náz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e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otto „Podporujeme vaši budoucnost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f)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www.esfcr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Kompletní řady i samostatná loga jsou ke stažení na webu (formát JPG, AI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anuál vizuální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ikost, řazení, rozestupy povinných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bare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typy pís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velké množství příkladů</a:t>
            </a:r>
            <a:r>
              <a:rPr b="0" lang="cs-CZ" sz="36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d3673"/>
                </a:solidFill>
                <a:latin typeface="Arial"/>
              </a:rPr>
              <a:t>Lze použít i logo příjemce, případně logo projekt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Povinné minimum publicity × publicitní ak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inimum public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povinná loga, uvádí všichni příjemci; propagace programu, fondu, E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kd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eníze dává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ublicitní aktivity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= aktivity specifikované v projektové žádosti; zejména propagace projektu (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a co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se peníze dávají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o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MPSV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říjemci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musí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použív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Loga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není třeba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 uvádět </a:t>
            </a:r>
            <a:r>
              <a:rPr b="1" lang="cs-CZ" sz="2800" spc="-1" strike="noStrike">
                <a:solidFill>
                  <a:srgbClr val="0d3673"/>
                </a:solidFill>
                <a:latin typeface="Arial"/>
              </a:rPr>
              <a:t>pouze v řadě</a:t>
            </a: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3673"/>
                </a:solidFill>
                <a:latin typeface="Arial"/>
              </a:rPr>
              <a:t>Barevná a černobílá varianta lo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6"/>
          <p:cNvGraphicFramePr/>
          <p:nvPr/>
        </p:nvGraphicFramePr>
        <p:xfrm>
          <a:off x="1692360" y="4221000"/>
          <a:ext cx="158436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2360" y="4221000"/>
                    <a:ext cx="158436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1116000" y="1989000"/>
            <a:ext cx="2664000" cy="816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5"/>
          <a:stretch/>
        </p:blipFill>
        <p:spPr>
          <a:xfrm>
            <a:off x="1116000" y="3068640"/>
            <a:ext cx="2664000" cy="844560"/>
          </a:xfrm>
          <a:prstGeom prst="rect">
            <a:avLst/>
          </a:prstGeom>
          <a:ln w="0">
            <a:noFill/>
          </a:ln>
        </p:spPr>
      </p:pic>
      <p:sp>
        <p:nvSpPr>
          <p:cNvPr id="60" name="Line 8"/>
          <p:cNvSpPr/>
          <p:nvPr/>
        </p:nvSpPr>
        <p:spPr>
          <a:xfrm>
            <a:off x="1403280" y="4076640"/>
            <a:ext cx="1944720" cy="1366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"/>
          <p:cNvSpPr/>
          <p:nvPr/>
        </p:nvSpPr>
        <p:spPr>
          <a:xfrm flipH="1">
            <a:off x="1547640" y="4149720"/>
            <a:ext cx="1944720" cy="1295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4356000" y="1989000"/>
            <a:ext cx="1328760" cy="1281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7"/>
          <a:stretch/>
        </p:blipFill>
        <p:spPr>
          <a:xfrm>
            <a:off x="6516720" y="1989000"/>
            <a:ext cx="1441440" cy="139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8"/>
          <a:stretch/>
        </p:blipFill>
        <p:spPr>
          <a:xfrm>
            <a:off x="5292720" y="3860640"/>
            <a:ext cx="1871640" cy="1206720"/>
          </a:xfrm>
          <a:prstGeom prst="rect">
            <a:avLst/>
          </a:prstGeom>
          <a:ln w="0">
            <a:noFill/>
          </a:ln>
        </p:spPr>
      </p:pic>
      <p:sp>
        <p:nvSpPr>
          <p:cNvPr id="65" name="Line 16"/>
          <p:cNvSpPr/>
          <p:nvPr/>
        </p:nvSpPr>
        <p:spPr>
          <a:xfrm flipH="1">
            <a:off x="4932360" y="3573360"/>
            <a:ext cx="2735280" cy="182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003640" y="3716280"/>
            <a:ext cx="2735280" cy="1677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Časté otá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Loga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je třeba používat na dokumentech spojených s projektem a na materiálech/předmětech hrazených z projektu, nemusí být ale úplně všu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ANO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smlouvy, zadávací dokumentace, letáky, brožury, propagační předměty, prezenční listiny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NE</a:t>
            </a:r>
            <a:r>
              <a:rPr b="0" lang="cs-CZ" sz="2000" spc="-1" strike="noStrike">
                <a:solidFill>
                  <a:srgbClr val="0d3673"/>
                </a:solidFill>
                <a:latin typeface="Arial"/>
              </a:rPr>
              <a:t>: kancelářské potřeby pro běžnou administrativu, faktury a objednávky (generované strojov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Lze použít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amolepk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nebo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azítko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ětu</a:t>
            </a: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 „Tento projekt je financován z ESF prostřednictvím OP LZZ a ze státního rozpočtu ČR.“ není třeba v tištěné podobě použí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Accenture</cp:lastModifiedBy>
  <dcterms:modified xsi:type="dcterms:W3CDTF">2012-04-23T08:38:51Z</dcterms:modified>
  <cp:revision>32</cp:revision>
  <dc:subject/>
  <dc:title>Snímek 1</dc:title>
</cp:coreProperties>
</file>